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9B53B-FF7E-4420-894B-CBCF80CA40C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D9E95-270F-4D05-BA69-0B1CF5F42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A88F8-6E4E-42C1-A65F-ECA53EC06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858DF-2668-45CE-B476-FB9F44AE789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DEAC2-7CC2-47BE-A499-5718AAAED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A9A09-E80F-4103-B0AD-B4B95A0AB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3AAF7-8408-477C-88D1-40E895FD4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E33D0-7A0E-444A-9EA8-BF9E8970F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96657-770E-4AD0-A39F-B15D8A715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545D2-5914-48E7-A00D-469F76958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AB8AD-20F3-4425-A860-F1E32AF05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273D4-F873-4855-817A-E39817BF3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FD64E-B520-4068-9BAC-70EDA2A2DB6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7280" y="2276640"/>
            <a:ext cx="7345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6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的药物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α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滞剂、激素类、降低胆固醇药物以及植物类药物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6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方式有内镜治疗和开放性手术。内镜治疗主要有经尿道前列腺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ansurethral resection of prostate,TUR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。开放性手术包括耻骨上经膀胱前列腺切除术、耻骨后前列腺切除术和经会阴前列腺切除术。其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临床治疗的首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3640" y="304560"/>
            <a:ext cx="8591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疗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括激光治疗、经尿道球囊高压扩张术、经尿道高温治疗、体外高强度聚焦超声、前列腺尿道网状支架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468360" y="304560"/>
            <a:ext cx="9383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2131920" y="1700280"/>
            <a:ext cx="5104080" cy="3960720"/>
          </a:xfrm>
          <a:prstGeom prst="rect">
            <a:avLst/>
          </a:prstGeom>
          <a:ln w="0">
            <a:noFill/>
          </a:ln>
        </p:spPr>
      </p:pic>
      <p:sp>
        <p:nvSpPr>
          <p:cNvPr id="142" name="矩形 4"/>
          <p:cNvSpPr/>
          <p:nvPr/>
        </p:nvSpPr>
        <p:spPr>
          <a:xfrm>
            <a:off x="2124000" y="5807160"/>
            <a:ext cx="632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                        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前列腺手术方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①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耻骨上式；②耻骨后式；③会阴式；④经尿道内镜治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304560"/>
            <a:ext cx="8447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0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明确诊断为良性前列腺增生症，在硬膜外麻醉下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。术中出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回病房后持续膀胱冲洗通畅，冲洗液呈淡红色。术日晚出现烦躁不安，不合作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230/13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血红蛋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0g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a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+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8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zh-CN" sz="2800" spc="-1" strike="noStrike" baseline="30000">
                <a:solidFill>
                  <a:srgbClr val="046ca6"/>
                </a:solidFill>
                <a:latin typeface="华文新魏"/>
              </a:rPr>
              <a:t>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.7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l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-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12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①该患者出现了何种问题？②原因是什么？③如何护理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304560"/>
            <a:ext cx="8447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尿障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尿道梗阻、膀胱逼尿肌受损或手术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手术后膀胱痉挛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综合征、尿频、尿失禁、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8920" y="304560"/>
            <a:ext cx="873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尿潴留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7640" y="304560"/>
            <a:ext cx="8807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痉挛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腔气囊导尿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拔管时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冲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冲洗速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冲洗温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确保冲洗及引流管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、记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频、尿失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出良性前列腺增生症的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概述良性前列腺增生症的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良性前列腺增生症的辅助检查、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良性前列腺增生症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5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尿功能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自我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性生活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门诊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144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良性前列腺增生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仍未完全清楚。老龄和有功能的睾丸是缺一不可的两个重要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频是最早期的症状，进行性排尿困难是最典型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前列腺增生是一种老化现象，只有发展为良性前列腺增生症才需要治疗，治疗原则包括药物治疗、非手术介入治疗和手术治疗，其中经尿道前列腺切除术是临床治疗的首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144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良性前列腺增生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要做好心理护理、营养与饮食、急性尿潴留的护理、用药护理和术前准备。术后护理措施包括病情观察、体位、饮食、预防感染、膀胱痉挛的护理、引流管的护理、膀胱冲洗的护理、术后并发症的护理。另外，还要做好健康教育，提高患者的生活质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良性前列腺增生症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enign prostatic hyperplasi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简称前列腺增生，亦称良性前列腺肥大，是老年男性的常见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良性前列腺增生症的病因仍未完全清楚。目前一致公认的是老龄和有功能的睾丸两个重要因素，且二者缺一不可。此外，在前列腺内（尤其是围绕膀胱颈部的平滑肌内）含有丰富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α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，当这些受体激活时该处平滑肌收缩，是引起排尿困难的又一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3" name="图片 5" descr=""/>
          <p:cNvPicPr/>
          <p:nvPr/>
        </p:nvPicPr>
        <p:blipFill>
          <a:blip r:embed="rId1"/>
          <a:stretch/>
        </p:blipFill>
        <p:spPr>
          <a:xfrm>
            <a:off x="2124000" y="1268280"/>
            <a:ext cx="4891320" cy="4511880"/>
          </a:xfrm>
          <a:prstGeom prst="rect">
            <a:avLst/>
          </a:prstGeom>
          <a:ln w="0">
            <a:noFill/>
          </a:ln>
        </p:spPr>
      </p:pic>
      <p:sp>
        <p:nvSpPr>
          <p:cNvPr id="114" name="矩形 4"/>
          <p:cNvSpPr/>
          <p:nvPr/>
        </p:nvSpPr>
        <p:spPr>
          <a:xfrm>
            <a:off x="2627280" y="5756400"/>
            <a:ext cx="495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前列腺增生，腺体凸向后尿道和膀胱颈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0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进行性排尿困难伴尿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，尿潴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6.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8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40/9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神志清，表情痛苦。下腹饱满，可触及膨胀的膀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直肠指诊：可触及前列腺增大，表面光滑、质韧、有弹性，中间沟消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3640" y="304560"/>
            <a:ext cx="8591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频、尿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尿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潴留、尿失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指诊可触到增大的前列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按照腺体增生的程度可分为三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前列腺增生时因局部充血、血管破裂发生无痛性血尿。合并感染或结石，有尿频、尿急、尿痛等膀胱刺激症状。长期排尿困难者可引起腹外疝、内痔或脱肛。晚期可出现肾积水和肾功能不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流动力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前列腺特异性抗原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S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测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3640" y="304560"/>
            <a:ext cx="8591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烟酒嗜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水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时排尿或憋尿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53:33Z</dcterms:modified>
  <cp:revision>114</cp:revision>
  <dc:subject/>
  <dc:title>内科护理学</dc:title>
</cp:coreProperties>
</file>